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05C0-19DC-445E-9268-98672913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06A9-A2E4-4944-A4D1-2F2C40B6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8CDF-D696-4313-9DA7-DD9A35BC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C016-E9FF-4E94-9605-3339F16E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97E2-F0C7-457A-9B53-348456A4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7C15-C9C1-42C7-A003-C429CC3D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B768-E9A7-4633-A258-8B4E705E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66A4-D8D9-4EA0-B63F-AF2C08BC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1583-BB56-43A0-8349-067CD7EE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DFA9-3121-4700-AC03-2255B020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6980-371F-4CB3-A88E-8468B13A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3EA0-08C3-448B-AD90-C67BB642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78B8-B71A-4683-8CAC-594C42DBD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5280" y="692280"/>
            <a:ext cx="8353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kills and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DMIN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dnesday 17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ov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5280" y="620640"/>
            <a:ext cx="8353440" cy="55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hods of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Friday you should be able to answer the following questions for each method of 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would the practice be set-up/organ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id you do during the pract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many times did you repeat the pract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the environment open/cl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as the focus of the practice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620640"/>
            <a:ext cx="835344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e: Wednesday 2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v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s of practice you used to develop the ski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technique you identified as a weaknes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549360"/>
            <a:ext cx="8280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ne badminton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8360" y="692280"/>
            <a:ext cx="828036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dminton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raining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a variety of skills an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both singles and doubles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on of formal N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620640"/>
            <a:ext cx="8353440" cy="68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B – Assessment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1/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in 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3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Q8 under exam condi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pportunity for re-sit part 1) – Wednesday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Q9,10,11 under exam conditions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dnesday 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c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4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Q12,13,14 for ho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pass requirement 32/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620640"/>
            <a:ext cx="8353440" cy="56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ap – where are we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thered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ied Strengths and Weak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stand how model performance and Stages of learning can help ou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133720"/>
            <a:ext cx="574560" cy="790560"/>
          </a:xfrm>
          <a:prstGeom prst="downArrow">
            <a:avLst>
              <a:gd name="adj1" fmla="val 50000"/>
              <a:gd name="adj2" fmla="val 34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3573360"/>
            <a:ext cx="574560" cy="935280"/>
          </a:xfrm>
          <a:prstGeom prst="downArrow">
            <a:avLst>
              <a:gd name="adj1" fmla="val 50000"/>
              <a:gd name="adj2" fmla="val 406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5280" y="620640"/>
            <a:ext cx="8353440" cy="63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ap – where are we g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individual training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ry out training programme and monitor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pt or change programme a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test performance to check for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e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11640" y="479736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1640" y="299736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11640" y="206064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3860640"/>
            <a:ext cx="485640" cy="648000"/>
          </a:xfrm>
          <a:prstGeom prst="downArrow">
            <a:avLst>
              <a:gd name="adj1" fmla="val 50000"/>
              <a:gd name="adj2" fmla="val 333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5280" y="620640"/>
            <a:ext cx="8353440" cy="59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hods of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hree methods of 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ed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5280" y="620640"/>
            <a:ext cx="835344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ypes of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er drill with no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er drill with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r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 r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method of pract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5280" y="582480"/>
            <a:ext cx="8353440" cy="5583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5280" y="620640"/>
            <a:ext cx="8353440" cy="65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ethods of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the follow practices in order by the amount of pressure they place on a perfor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 with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ed g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 without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r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pressure effect perform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feedback effect perform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00:34Z</dcterms:created>
  <dc:creator>hamiltonp</dc:creator>
  <dc:description/>
  <dc:language>en-US</dc:language>
  <cp:lastModifiedBy>maddenp1</cp:lastModifiedBy>
  <dcterms:modified xsi:type="dcterms:W3CDTF">2010-11-17T10:26:27Z</dcterms:modified>
  <cp:revision>10</cp:revision>
  <dc:subject/>
  <dc:title>Slide 1</dc:title>
</cp:coreProperties>
</file>